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214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4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21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218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5.xml.rels" ContentType="application/vnd.openxmlformats-package.relationships+xml"/>
  <Override PartName="/ppt/slides/_rels/slide51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14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79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3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22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223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220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36.xml" ContentType="application/vnd.openxmlformats-officedocument.presentationml.slide+xml"/>
  <Override PartName="/ppt/slides/slide221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212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D73-05F5-4750-BA6F-148F6A97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E72-1A67-46CE-AD97-8C92276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0E3-ED75-4140-80FC-E62826F1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85A-6E6B-46DD-9D57-AB3BE4F6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382A-1A33-4B55-A4B6-2548F38B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F33-A6F0-4F6A-B338-F91C1A8A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98E3-FF5C-41E1-B885-449E053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E8F9-6B88-4539-ABB7-54B2A74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D2D3-B184-495B-BE17-23D69823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2400-ADBA-4112-AD4F-4BE97B58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435F-8CCF-4C35-9EC2-021DBD9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6C6-EA25-4575-B890-DE49867B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6F41-48EA-4440-B7C4-468D1D9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FBC-D1A2-4366-A441-783682E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EAAA-8612-452A-9003-B01A548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6131-0C5F-4611-95CD-19E2DCA1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7CC4-AFF0-4B6D-86EF-43FD0E85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F1-1342-4E87-89D0-BEC688B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E8E-F2AE-4E32-A07B-B7D233B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5BC-ECA2-488B-80F0-2D7A1EB1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A8D-D6B3-4048-A36F-F5FCB6E1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8F0-1CAC-4E7C-B810-77ACF9F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B5F-8C89-4DBF-B61C-FBE64C72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F1F-7175-4A94-ACBA-6F0E1146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71D-A8E5-41F0-87E5-0F0376B70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1BAD-6509-43B9-B8E0-F0A8C78E2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Invention and Inno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22200" y="62485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ten by Roland Willi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15200" y="6172200"/>
            <a:ext cx="15238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Times New Roman"/>
              </a:rPr>
              <a:t>Discuss the inventors and their inventions</a:t>
            </a:r>
            <a:endParaRPr b="0" lang="en-US" sz="8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ALEXANDER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GRAHAM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BELL</a:t>
            </a:r>
            <a:br>
              <a:rPr sz="9200"/>
            </a:br>
            <a:r>
              <a:rPr b="1" lang="en-US" sz="9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9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EORG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ARVER</a:t>
            </a:r>
            <a:br>
              <a:rPr sz="80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ANUT BUTT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ONARDO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DAVINCI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WALT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DISNEY</a:t>
            </a:r>
            <a:br>
              <a:rPr sz="92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MULTIPLANE CAMERA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MICKEY MOUS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EDISON</a:t>
            </a:r>
            <a:br>
              <a:rPr sz="92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PHONOGRAPH</a:t>
            </a:r>
            <a:br>
              <a:rPr sz="8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LIGHTBULB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ALBERT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EINSTEIN</a:t>
            </a:r>
            <a:br>
              <a:rPr sz="100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ATOMIC BOMB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HENRY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FORD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BENJAMIN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br>
              <a:rPr sz="92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IFOCALS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LIGHTNING ROD</a:t>
            </a:r>
            <a:br>
              <a:rPr sz="6600"/>
            </a:b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DOMETER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JOHANNES</a:t>
            </a:r>
            <a:br>
              <a:rPr sz="8800"/>
            </a:b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GUTENBURG</a:t>
            </a:r>
            <a:br>
              <a:rPr sz="8800"/>
            </a:b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PRINTING PRES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WIS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ATIMER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SIR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ISAAC</a:t>
            </a:r>
            <a:br>
              <a:rPr sz="9200"/>
            </a:br>
            <a:r>
              <a:rPr b="1" lang="en-US" sz="92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br>
              <a:rPr sz="9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REFLECTING TELESCOP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LEVI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STRAUSS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BLUE JEAN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ELI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HITNEY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COTTON GIN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ILBUR &amp;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ORVILLE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Times New Roman"/>
              </a:rPr>
              <a:t>WRIGHT</a:t>
            </a:r>
            <a:br>
              <a:rPr sz="10000"/>
            </a:b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AIRPLAN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19320" y="3657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ast time, Get ready!!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533520" y="24382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 the hard part, pick one of your inventors and write down how his or her invention may have impacted the way people lived, worked, or produced thing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Big Ide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GR-II-1: Students will learn the concept of invention and innov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000000"/>
                </a:solidFill>
                <a:latin typeface="Times New Roman"/>
              </a:rPr>
              <a:t>Discuss the impacts of their inventions</a:t>
            </a:r>
            <a:endParaRPr b="0" lang="en-US" sz="8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ntion and Innovation Defini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6705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Merriam-Webster Dictionary online (2006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inven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“something invented : as (1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product of the imagination;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especial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alse conception (2)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device, contrivance, or process originated after study and experiment” (p. 1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m-w.com/dictionary/invention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PE02481_"/>
          <p:cNvPicPr/>
          <p:nvPr/>
        </p:nvPicPr>
        <p:blipFill>
          <a:blip r:embed="rId1"/>
          <a:stretch/>
        </p:blipFill>
        <p:spPr>
          <a:xfrm>
            <a:off x="6705720" y="2133720"/>
            <a:ext cx="2214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ntion and Innovation Defini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innov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on the other hand, is “a new idea, method, or device” (Merriam-Webster, 2006, p. 1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m-w.com/dictionary/innov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PE02481_"/>
          <p:cNvPicPr/>
          <p:nvPr/>
        </p:nvPicPr>
        <p:blipFill>
          <a:blip r:embed="rId1"/>
          <a:stretch/>
        </p:blipFill>
        <p:spPr>
          <a:xfrm>
            <a:off x="6705720" y="2133720"/>
            <a:ext cx="2214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Those Definitions are So Similar…?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 you can see by the Merriam-Webster definitions, there’s hardly a difference between an invention and an innovation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t Those Definitions are So Similar…?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685800" y="1981080"/>
            <a:ext cx="7924680" cy="40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ever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Design an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Wright, T. &amp; Brown,  R., 2004) offers a distinction stating that an invention i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new and unique product created by an inventor 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p. 703) whil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innovation is “The process of altering an existing product or system to improve it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p. 702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our purposes we’ll use th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echnology Design and Application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defini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ce is the study of the natural worl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tudy our world by observing, identifying, describing, investigating, and explaining what they see and experien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ientific study helps develop new cures for diseases, new products for consumers, and new ways to work and l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3" name="Picture 4" descr="BD07129_"/>
          <p:cNvPicPr/>
          <p:nvPr/>
        </p:nvPicPr>
        <p:blipFill>
          <a:blip r:embed="rId1"/>
          <a:stretch/>
        </p:blipFill>
        <p:spPr>
          <a:xfrm>
            <a:off x="4610160" y="2602080"/>
            <a:ext cx="377172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6708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is not just comp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refers to human invention and innovation in actio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ology is the use of knowledge to turn resources into goods and services that extend our capability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Picture 4" descr="BD05153_"/>
          <p:cNvPicPr/>
          <p:nvPr/>
        </p:nvPicPr>
        <p:blipFill>
          <a:blip r:embed="rId1"/>
          <a:stretch/>
        </p:blipFill>
        <p:spPr>
          <a:xfrm>
            <a:off x="838080" y="919080"/>
            <a:ext cx="1905120" cy="1843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BD05160_"/>
          <p:cNvPicPr/>
          <p:nvPr/>
        </p:nvPicPr>
        <p:blipFill>
          <a:blip r:embed="rId2"/>
          <a:stretch/>
        </p:blipFill>
        <p:spPr>
          <a:xfrm>
            <a:off x="2209680" y="2438280"/>
            <a:ext cx="1981440" cy="1916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BD05172_"/>
          <p:cNvPicPr/>
          <p:nvPr/>
        </p:nvPicPr>
        <p:blipFill>
          <a:blip r:embed="rId3"/>
          <a:stretch/>
        </p:blipFill>
        <p:spPr>
          <a:xfrm>
            <a:off x="762120" y="4038480"/>
            <a:ext cx="1981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219320" y="23623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nvention and innov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R 7-2 Lesson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Knowledge/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related invention and innovation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e invention to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an important past invention or 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19320" y="23623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nvention and innov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62120" y="106668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v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cietal Imp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ialization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648320" y="1066680"/>
            <a:ext cx="3809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tifa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to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gineering Design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219320" y="36576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e out a sheet of paper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447920" y="2666880"/>
            <a:ext cx="693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rite the names of who you think are the three most famous inventors of all time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TOP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219320" y="36576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t ready again!!!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n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te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i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35053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rite down what they invented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0000"/>
                </a:solidFill>
                <a:latin typeface="Times New Roman"/>
              </a:rPr>
              <a:t>READY</a:t>
            </a:r>
            <a:endParaRPr b="0" lang="en-US" sz="15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Times New Roman"/>
              </a:rPr>
              <a:t>SE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4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3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1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9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8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30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1:37:09Z</dcterms:created>
  <dc:creator>Pamela J. Brown</dc:creator>
  <dc:description/>
  <dc:language>en-US</dc:language>
  <cp:lastModifiedBy>Flanders</cp:lastModifiedBy>
  <dcterms:modified xsi:type="dcterms:W3CDTF">2010-02-01T21:19:39Z</dcterms:modified>
  <cp:revision>22</cp:revision>
  <dc:subject/>
  <dc:title>INVENTION</dc:title>
</cp:coreProperties>
</file>